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A37-E7A8-4D54-86D0-3A6D8329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9D9-B090-49E1-AE4D-2C652FF4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43A-8B56-4397-86C6-468006B7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0FC-C7EA-4393-8216-15444074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C4C-E3AF-4998-8653-11107B57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43B-F8B9-434B-8417-7AD007DD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384-C3E6-4747-8631-0CC93301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AC9-F0F3-4A2F-98B1-17D496D6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935-297E-4435-A490-45B7EF26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0A8-BB16-4BBA-A30A-13DEDEA2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B75-0EE2-4BFE-A695-D0AD874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240-9EA9-457D-818C-37CD8691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834A-FD38-4402-914B-40E83F619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581280"/>
            <a:ext cx="39625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09720" y="399420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operative 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 my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7680" y="4572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0640" y="83059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160" y="7696080"/>
            <a:ext cx="785520" cy="106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5960" y="81532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04920"/>
            <a:ext cx="6400800" cy="85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28600"/>
            <a:ext cx="23623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495320" y="228600"/>
            <a:ext cx="22100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51814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1295280" cy="52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581280" y="7848720"/>
            <a:ext cx="10670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2T04:39:10Z</dcterms:created>
  <dc:creator>Trevor Bettison</dc:creator>
  <dc:description/>
  <dc:language>en-US</dc:language>
  <cp:lastModifiedBy>Trevor</cp:lastModifiedBy>
  <dcterms:modified xsi:type="dcterms:W3CDTF">2008-08-20T20:07:56Z</dcterms:modified>
  <cp:revision>9</cp:revision>
  <dc:subject/>
  <dc:title>PowerPoint Presentation</dc:title>
</cp:coreProperties>
</file>